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wmf" ContentType="image/x-wmf"/>
  <Override PartName="/ppt/media/image7.wmf" ContentType="image/x-wmf"/>
  <Override PartName="/ppt/media/image8.png" ContentType="image/png"/>
  <Override PartName="/ppt/media/image9.png" ContentType="image/png"/>
  <Override PartName="/ppt/media/image1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5DD23-6B9D-43AB-9311-4C7370A2FB1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D8C6F-2CF5-4C67-97D3-1D184551B9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/J=IB, F= Immer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2AF1-CCB5-42B8-B449-CBBBF6186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A848-5AC8-4148-B98E-3BBFDD250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335E-673E-4349-8CA8-CA8F7C704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693E-3556-421E-8A0A-4CB7E4238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0DC86-AF58-4037-8037-D12C16648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44CA0-B3EB-462E-942D-EE2716065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BF75E-E661-4BF3-9A74-33D1C9838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072E3-F80F-488F-A6ED-4B7EAB421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FB795-FA32-49A5-8F01-5EAE39682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DC57B-EF75-4333-9E52-AC5D7222F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30023-27B3-4E9D-9F04-8E363C663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C24F-9EFE-4214-98CE-DF5A15307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AF509-FF11-4DD7-AA7C-555ECD28F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C6827-A14E-4B72-ABB4-F99A5721D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9C0F9-5D32-484B-8613-FEF7283B7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042B5-7A49-4D02-BE2D-DD666F0F2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965A6-783B-4412-959B-24F84C1FE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5F88-CEDB-4D03-9ED6-849A22489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895A-A183-4960-94BF-70FE2CB76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3411-5F4F-425A-888F-2F7E1EE97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3506-E710-439D-BFA0-BCFA51FA6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DDBB-D160-4B7C-962D-6AA55FEC7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F6AA-02D6-44A5-90DC-390DEF8A7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4F4D-1745-4C40-B81B-9FA29B33A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D1717-24F2-4380-AC15-3D39A234E23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5637F-9527-4004-861C-5B5029833FE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ourse Selection</a:t>
            </a:r>
            <a:br>
              <a:rPr sz="5400"/>
            </a:b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2016-2017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Verdana"/>
              </a:rPr>
              <a:t>(IB)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What do you need for your 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Ontario Diploma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4 credits in English (1 credit per grade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3 credits in Mathematics (1 credit in Grade 11 or 12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2 credits in Scienc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1 credit in Canadian Histor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1 credit in Canadian Geograph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1 credit in the Art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1 credit in Health and Physical Educa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1 credit in French as a Second Languag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0.5 credit in Career Studi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0.5 credit in Civic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What do you need for your 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Ontario Diploma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Group 1: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1 additional credit in English, or French as a Second Language, or a Native language, or a Classical or an International language, or Social Sciences and the Humanities, or Canadian and World Studies, or Guidance and Career Education, or Cooperative Educa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Group 2: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1 additional credit in Health and Physical Education, or the Arts, or Business Studies, or French as a Second Language, or Cooperative Educa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Group 3: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1 additional credit in Science (Grade 11 or 12), or Technological Education, or French as a Second Language, or Computer Studies, or Cooperative Educa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Plan your future – 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Where are you going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orkplace? Complete an apprenticeship?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llege? University?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ork/travel? Part-time studies/work?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Gap year to upgrade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nsider your strengths and interests when making a decision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nduct some research to decide on options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Plan your future – 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Where are you going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Verdana"/>
              </a:rPr>
              <a:t>COLLEGE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– Earn a diploma, applied degree, collaborative program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Verdana"/>
              </a:rPr>
              <a:t>               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rerequisites: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OSSD, ENG4C, and others depending on the specific program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ortfolios, Program tests (Math, Language, HOAE), and/or interviews are required for certain program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pplied degree programs and collaborative programs generally have university requirement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rticulation agreements with universities – opportunity to continue from college into degree program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Plan your future – 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Where are you going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Verdana"/>
              </a:rPr>
              <a:t>UNIVERSITY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- Earn a Bachelor’s Degree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(BSc, BCom, BA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rerequisites: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OSSD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 4U or 4M courses (some schools maximum of two 4M courses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NG4U and specific program requirement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inimum cut-off averages in specific courses for specific program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ortfolios, test results, and/or interviews are required for certain program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Fields of Study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University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93" name="Picture 4" descr=""/>
          <p:cNvPicPr/>
          <p:nvPr/>
        </p:nvPicPr>
        <p:blipFill>
          <a:blip r:embed="rId1"/>
          <a:stretch/>
        </p:blipFill>
        <p:spPr>
          <a:xfrm>
            <a:off x="457200" y="1995480"/>
            <a:ext cx="8229600" cy="37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lan your futur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95" name="Picture 8" descr=""/>
          <p:cNvPicPr/>
          <p:nvPr/>
        </p:nvPicPr>
        <p:blipFill>
          <a:blip r:embed="rId1"/>
          <a:stretch/>
        </p:blipFill>
        <p:spPr>
          <a:xfrm>
            <a:off x="609480" y="1371600"/>
            <a:ext cx="79250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-1371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97" name="Object 6"/>
          <p:cNvGraphicFramePr/>
          <p:nvPr/>
        </p:nvGraphicFramePr>
        <p:xfrm>
          <a:off x="1638360" y="228600"/>
          <a:ext cx="6075360" cy="662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38360" y="228600"/>
                    <a:ext cx="6075360" cy="662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www.ontariocolleges.ca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www.electronicinfo.ca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B Requiremen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You must take 6 IB cours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Group 1: Language and Literatur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Group 2: Language Acquisi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Group 3: Individuals and Societi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Group 4: Scienc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Group 5: Mathematic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Group6: Arts or Electiv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 minimum of three at the HL (may be up to 4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lephant in the Roo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 am thinking of leaving IB…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onsider all avenues available for you to find success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ind the best fit for your academic and personal need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peak openly with your parents and Guidance about your concern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ND…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You must take the Theory of Knowledge course (HZT4UE) (Grade 11-IB1)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You must complete C.A.S. requirement (Creative/Active/Service)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You must complete an Extended Essay and TOK paper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HL or SL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any programs are taught at the Higher Level (HL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xam can be written at the Standard Level (SL) – Maximum 2 SL exams in IB 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ecision on level is finalized in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October of IB2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when you register for exam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Group 1: Language and Literature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228600" y="1447920"/>
          <a:ext cx="8763120" cy="4190760"/>
        </p:xfrm>
        <a:graphic>
          <a:graphicData uri="http://schemas.openxmlformats.org/drawingml/2006/table">
            <a:tbl>
              <a:tblPr/>
              <a:tblGrid>
                <a:gridCol w="1752480"/>
                <a:gridCol w="1752840"/>
                <a:gridCol w="1752480"/>
                <a:gridCol w="1752480"/>
                <a:gridCol w="1752840"/>
              </a:tblGrid>
              <a:tr h="13968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nglish A: Standard Level or Higher Level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9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9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urse Code and Prerequisit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NG1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NG2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NG3U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NG4U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Group 2: Language Acquisition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152280" y="990720"/>
          <a:ext cx="8458200" cy="1657080"/>
        </p:xfrm>
        <a:graphic>
          <a:graphicData uri="http://schemas.openxmlformats.org/drawingml/2006/table">
            <a:tbl>
              <a:tblPr/>
              <a:tblGrid>
                <a:gridCol w="1690920"/>
                <a:gridCol w="1357200"/>
                <a:gridCol w="1447920"/>
                <a:gridCol w="1676160"/>
                <a:gridCol w="2286000"/>
              </a:tblGrid>
              <a:tr h="414360">
                <a:tc gridSpan="5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panish B:  Standard Level or Higher Leve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urse Code and Prerequisit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WSB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WSB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WSC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WSC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WSDU  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(must be SL exam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WSDU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(SL or HL exam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1" name=""/>
          <p:cNvGraphicFramePr/>
          <p:nvPr/>
        </p:nvGraphicFramePr>
        <p:xfrm>
          <a:off x="152280" y="4648320"/>
          <a:ext cx="8534520" cy="1939680"/>
        </p:xfrm>
        <a:graphic>
          <a:graphicData uri="http://schemas.openxmlformats.org/drawingml/2006/table">
            <a:tbl>
              <a:tblPr/>
              <a:tblGrid>
                <a:gridCol w="1706760"/>
                <a:gridCol w="1708200"/>
                <a:gridCol w="1704960"/>
                <a:gridCol w="1708200"/>
                <a:gridCol w="1706400"/>
              </a:tblGrid>
              <a:tr h="697680">
                <a:tc gridSpan="5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rench A:  Standard Level or Higher Level*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*Students will be given the opportunity to write French B H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5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urse Code and Prerequisit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IF1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IF2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IF3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IF4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2" name=""/>
          <p:cNvGraphicFramePr/>
          <p:nvPr/>
        </p:nvGraphicFramePr>
        <p:xfrm>
          <a:off x="152280" y="2743200"/>
          <a:ext cx="8534520" cy="1714680"/>
        </p:xfrm>
        <a:graphic>
          <a:graphicData uri="http://schemas.openxmlformats.org/drawingml/2006/table">
            <a:tbl>
              <a:tblPr/>
              <a:tblGrid>
                <a:gridCol w="1706760"/>
                <a:gridCol w="1706400"/>
                <a:gridCol w="1708200"/>
                <a:gridCol w="1706760"/>
                <a:gridCol w="1706400"/>
              </a:tblGrid>
              <a:tr h="495000">
                <a:tc gridSpan="5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rench B:  Standard Level or Higher Leve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53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urse Code and Prerequisit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SF1D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SF2D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SF3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SF4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Group 3: Individuals and Societie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380880" y="1127160"/>
          <a:ext cx="8229600" cy="3125880"/>
        </p:xfrm>
        <a:graphic>
          <a:graphicData uri="http://schemas.openxmlformats.org/drawingml/2006/table">
            <a:tbl>
              <a:tblPr/>
              <a:tblGrid>
                <a:gridCol w="1644840"/>
                <a:gridCol w="1646280"/>
                <a:gridCol w="1647720"/>
                <a:gridCol w="1646280"/>
                <a:gridCol w="1644480"/>
              </a:tblGrid>
              <a:tr h="366480">
                <a:tc gridSpan="5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eography:  Standard Level or Higher Leve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2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urse Code and Prerequisit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GC1D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GF3M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GW4U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(SL or HL exam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2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urse Code and Prerequisit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GC1D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GF3M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GW4UE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(SL exam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7680">
                <a:tc gridSpan="5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tudents can move the grade 11 and 12 course into grades 10 and 11.  IF the student chooses this option, the exam will be written in grade 11 and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ust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be a SL exam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15" name=""/>
          <p:cNvGraphicFramePr/>
          <p:nvPr/>
        </p:nvGraphicFramePr>
        <p:xfrm>
          <a:off x="152280" y="4495680"/>
          <a:ext cx="8534520" cy="1700280"/>
        </p:xfrm>
        <a:graphic>
          <a:graphicData uri="http://schemas.openxmlformats.org/drawingml/2006/table">
            <a:tbl>
              <a:tblPr/>
              <a:tblGrid>
                <a:gridCol w="1706760"/>
                <a:gridCol w="1708200"/>
                <a:gridCol w="1704960"/>
                <a:gridCol w="1708200"/>
                <a:gridCol w="1706400"/>
              </a:tblGrid>
              <a:tr h="366120">
                <a:tc gridSpan="5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istory:  Standard Level or Higher Leve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2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urse Code and Prerequisit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/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HC2D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LN4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HY4UE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(SL or HL exam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6" name="Rectangle 111"/>
          <p:cNvSpPr/>
          <p:nvPr/>
        </p:nvSpPr>
        <p:spPr>
          <a:xfrm>
            <a:off x="378360" y="6324480"/>
            <a:ext cx="450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Verdana"/>
              </a:rPr>
              <a:t>Canadian World Studies and Humaniti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Group 3: Individuals and Societie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304920" y="1447920"/>
          <a:ext cx="8534160" cy="1920600"/>
        </p:xfrm>
        <a:graphic>
          <a:graphicData uri="http://schemas.openxmlformats.org/drawingml/2006/table">
            <a:tbl>
              <a:tblPr/>
              <a:tblGrid>
                <a:gridCol w="1706400"/>
                <a:gridCol w="1708200"/>
                <a:gridCol w="1704960"/>
                <a:gridCol w="1708200"/>
                <a:gridCol w="1706400"/>
              </a:tblGrid>
              <a:tr h="639720">
                <a:tc gridSpan="5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nformation Technology in a Global Society (ITGS):  Standard Level ONL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urse Code and Prerequisit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commended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TIJ1O or TGJ1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GJ2O or ICS2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GJ3ME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(SL exam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Group 4: Science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152280" y="990720"/>
          <a:ext cx="8458200" cy="1622160"/>
        </p:xfrm>
        <a:graphic>
          <a:graphicData uri="http://schemas.openxmlformats.org/drawingml/2006/table">
            <a:tbl>
              <a:tblPr/>
              <a:tblGrid>
                <a:gridCol w="1690920"/>
                <a:gridCol w="1692000"/>
                <a:gridCol w="1692360"/>
                <a:gridCol w="1692360"/>
                <a:gridCol w="1690560"/>
              </a:tblGrid>
              <a:tr h="414360">
                <a:tc gridSpan="5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iology:  Standard Level or Higher Leve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41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urse Code and Prerequisit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NC1DE/J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NC2DE/J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BI3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BI4UE (SL or HL exam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1" name=""/>
          <p:cNvGraphicFramePr/>
          <p:nvPr/>
        </p:nvGraphicFramePr>
        <p:xfrm>
          <a:off x="152280" y="4648320"/>
          <a:ext cx="8534520" cy="1611360"/>
        </p:xfrm>
        <a:graphic>
          <a:graphicData uri="http://schemas.openxmlformats.org/drawingml/2006/table">
            <a:tbl>
              <a:tblPr/>
              <a:tblGrid>
                <a:gridCol w="1706760"/>
                <a:gridCol w="1708200"/>
                <a:gridCol w="1704960"/>
                <a:gridCol w="1708200"/>
                <a:gridCol w="1706400"/>
              </a:tblGrid>
              <a:tr h="366120">
                <a:tc gridSpan="5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hysics:  Standard Level or Higher Leve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urse Code and Prerequisit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NC1DE/J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NC2DE/J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PH3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PH4UE (SL or HL exam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2" name=""/>
          <p:cNvGraphicFramePr/>
          <p:nvPr/>
        </p:nvGraphicFramePr>
        <p:xfrm>
          <a:off x="152280" y="2743200"/>
          <a:ext cx="8534520" cy="1774800"/>
        </p:xfrm>
        <a:graphic>
          <a:graphicData uri="http://schemas.openxmlformats.org/drawingml/2006/table">
            <a:tbl>
              <a:tblPr/>
              <a:tblGrid>
                <a:gridCol w="1706760"/>
                <a:gridCol w="1706400"/>
                <a:gridCol w="1708200"/>
                <a:gridCol w="1706760"/>
                <a:gridCol w="1706400"/>
              </a:tblGrid>
              <a:tr h="495000">
                <a:tc gridSpan="5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hemistry:  Standard Level or Higher Leve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3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urse Code and Prerequisit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NC1DE/J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NC2DE/J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CH3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CH4U1/2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(SL or HL exam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Group 4: Scienc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304920" y="1143000"/>
          <a:ext cx="8534160" cy="1920960"/>
        </p:xfrm>
        <a:graphic>
          <a:graphicData uri="http://schemas.openxmlformats.org/drawingml/2006/table">
            <a:tbl>
              <a:tblPr/>
              <a:tblGrid>
                <a:gridCol w="1706400"/>
                <a:gridCol w="1708200"/>
                <a:gridCol w="1704960"/>
                <a:gridCol w="1708200"/>
                <a:gridCol w="1706400"/>
              </a:tblGrid>
              <a:tr h="366120">
                <a:tc gridSpan="5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ports and Exercise Science:  Standard Leve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urse Code and Prerequisit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NC1DE/J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NC2DE/J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ny grade 11 Science (preferably Biology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SK4UE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(SL exam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Group 5: Mathematic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152280" y="990720"/>
          <a:ext cx="8458200" cy="1901880"/>
        </p:xfrm>
        <a:graphic>
          <a:graphicData uri="http://schemas.openxmlformats.org/drawingml/2006/table">
            <a:tbl>
              <a:tblPr/>
              <a:tblGrid>
                <a:gridCol w="1690920"/>
                <a:gridCol w="1692000"/>
                <a:gridCol w="1692360"/>
                <a:gridCol w="1692360"/>
                <a:gridCol w="1690560"/>
              </a:tblGrid>
              <a:tr h="414360">
                <a:tc gridSpan="5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ath Studies:  Standard Level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21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urse Code and Prerequisit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PM1D or MPM1D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PM2D or MPM2D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CR3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(SL exam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*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tudents may take MDM4U, MHF4U, MCV4U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7" name=""/>
          <p:cNvGraphicFramePr/>
          <p:nvPr/>
        </p:nvGraphicFramePr>
        <p:xfrm>
          <a:off x="152280" y="4943520"/>
          <a:ext cx="8534520" cy="1611360"/>
        </p:xfrm>
        <a:graphic>
          <a:graphicData uri="http://schemas.openxmlformats.org/drawingml/2006/table">
            <a:tbl>
              <a:tblPr/>
              <a:tblGrid>
                <a:gridCol w="1706760"/>
                <a:gridCol w="1708200"/>
                <a:gridCol w="1704960"/>
                <a:gridCol w="1708200"/>
                <a:gridCol w="1706400"/>
              </a:tblGrid>
              <a:tr h="366120">
                <a:tc gridSpan="5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athematics:  Higher Leve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urse Code and Prerequisit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PM1D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PM2D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HF4U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CV4U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(HL exam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8" name=""/>
          <p:cNvGraphicFramePr/>
          <p:nvPr/>
        </p:nvGraphicFramePr>
        <p:xfrm>
          <a:off x="152280" y="3048120"/>
          <a:ext cx="8534520" cy="1714320"/>
        </p:xfrm>
        <a:graphic>
          <a:graphicData uri="http://schemas.openxmlformats.org/drawingml/2006/table">
            <a:tbl>
              <a:tblPr/>
              <a:tblGrid>
                <a:gridCol w="1706760"/>
                <a:gridCol w="1706400"/>
                <a:gridCol w="1708200"/>
                <a:gridCol w="1706760"/>
                <a:gridCol w="1706400"/>
              </a:tblGrid>
              <a:tr h="495000">
                <a:tc gridSpan="5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athematics:  Standard Level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53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urse Code and Prerequisit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PM1D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PM2D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HF4U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CV4U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(SL exam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Group 6: Ar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152280" y="990720"/>
          <a:ext cx="8458200" cy="1749240"/>
        </p:xfrm>
        <a:graphic>
          <a:graphicData uri="http://schemas.openxmlformats.org/drawingml/2006/table">
            <a:tbl>
              <a:tblPr/>
              <a:tblGrid>
                <a:gridCol w="1690920"/>
                <a:gridCol w="1692000"/>
                <a:gridCol w="1265400"/>
                <a:gridCol w="2119320"/>
                <a:gridCol w="1690560"/>
              </a:tblGrid>
              <a:tr h="411120">
                <a:tc gridSpan="5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usic:  Standard Level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2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urse Code and Prerequisit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MU1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MU2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MU3ME and AMR3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MU4ME and AMR4M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(SL exam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1" name=""/>
          <p:cNvGraphicFramePr/>
          <p:nvPr/>
        </p:nvGraphicFramePr>
        <p:xfrm>
          <a:off x="152280" y="4943520"/>
          <a:ext cx="8534520" cy="1611360"/>
        </p:xfrm>
        <a:graphic>
          <a:graphicData uri="http://schemas.openxmlformats.org/drawingml/2006/table">
            <a:tbl>
              <a:tblPr/>
              <a:tblGrid>
                <a:gridCol w="1706760"/>
                <a:gridCol w="1708200"/>
                <a:gridCol w="1704960"/>
                <a:gridCol w="1708200"/>
                <a:gridCol w="1706400"/>
              </a:tblGrid>
              <a:tr h="366120">
                <a:tc gridSpan="5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Visual Arts:  Higher Leve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urse Code and Prerequisit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VI1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VI3M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VI4M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WM4M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(HL exam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2" name=""/>
          <p:cNvGraphicFramePr/>
          <p:nvPr/>
        </p:nvGraphicFramePr>
        <p:xfrm>
          <a:off x="152280" y="2933640"/>
          <a:ext cx="8534520" cy="1714680"/>
        </p:xfrm>
        <a:graphic>
          <a:graphicData uri="http://schemas.openxmlformats.org/drawingml/2006/table">
            <a:tbl>
              <a:tblPr/>
              <a:tblGrid>
                <a:gridCol w="1706760"/>
                <a:gridCol w="1706400"/>
                <a:gridCol w="1708200"/>
                <a:gridCol w="1706760"/>
                <a:gridCol w="1706400"/>
              </a:tblGrid>
              <a:tr h="495000">
                <a:tc gridSpan="5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Visual Arts:  Standard Level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53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urse Code and Prerequisit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VI1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VI3M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VI4M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(SL exam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Understanding your Credit Counseling Summary</a:t>
            </a:r>
            <a:br>
              <a:rPr sz="40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ersonal Informa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mmunity Involvem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ntario Literacy Tes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ast cours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urrent cours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raduation criteri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Group 6: Ar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304920" y="1143000"/>
          <a:ext cx="8534160" cy="1611360"/>
        </p:xfrm>
        <a:graphic>
          <a:graphicData uri="http://schemas.openxmlformats.org/drawingml/2006/table">
            <a:tbl>
              <a:tblPr/>
              <a:tblGrid>
                <a:gridCol w="1706400"/>
                <a:gridCol w="1708200"/>
                <a:gridCol w="1704960"/>
                <a:gridCol w="1708200"/>
                <a:gridCol w="1706400"/>
              </a:tblGrid>
              <a:tr h="366120">
                <a:tc gridSpan="5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ilm:  Standard Leve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urse Code and Prerequisit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commende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J1O or TGJ1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GJ2O or ICS2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GJ3M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GJ4ME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(SL exam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5" name="Text Box 26"/>
          <p:cNvSpPr/>
          <p:nvPr/>
        </p:nvSpPr>
        <p:spPr>
          <a:xfrm>
            <a:off x="610560" y="3308400"/>
            <a:ext cx="682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NOTE:  students may select a second group 2 or 3 or 4 subjec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o substitute for a Group 6:  Art course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lectiv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rt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631440" indent="-24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r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631440" indent="-24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culptur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631440" indent="-24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Music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631440" indent="-24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Musical Theatr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631440" indent="-24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Vocal Jazz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91600" indent="-2916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anadian World Studi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631440" indent="-24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Regional Geograph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631440" indent="-24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Religious Studi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631440" indent="-24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nthropology, Sociology&amp; Psycholog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631440" indent="-24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boriginal Beliefs, Values &amp; Aspiration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631440" indent="-24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anadian Law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91600" indent="-2916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cienc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631440" indent="-24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Biolog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631440" indent="-24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hemistr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631440" indent="-24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hysic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631440" indent="-24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Earth and Space Scienc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631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hysical Educa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hys-e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tnes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Outdoor Educa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Danc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echnology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omputer Studi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Yearbook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ommunication Technolog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Design Technolog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Busines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Business Marketin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Plan Your Future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Cooperative Education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 great opportunity for experiential learning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ry out a job and see how it feel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2 periods every second day in the afternoon (COP3PD*) – 2 credit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O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2 periods every afternoon (COP4PD*) –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4 credit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* </a:t>
            </a: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Under Guidance/Career Ed. in Career Cruising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Plan your future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SHSM – Arts and Culture 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Digital Media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Rectangle 3"/>
          <p:cNvSpPr/>
          <p:nvPr/>
        </p:nvSpPr>
        <p:spPr>
          <a:xfrm>
            <a:off x="152280" y="1905120"/>
            <a:ext cx="8763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ncludes a bundle of major and other required credit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ertification and in-depth training in a chosen employment secto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aken in grade 11 and grade 12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pprenticeship, College, University, and Workplace pathways availab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uccessful completion leads to a Red Seal on the OSSD plus a program record transcrip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Plan your future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SHSM – Arts and Culture 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Digital Media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44" name="Object 3"/>
          <p:cNvGraphicFramePr/>
          <p:nvPr/>
        </p:nvGraphicFramePr>
        <p:xfrm>
          <a:off x="990720" y="1752480"/>
          <a:ext cx="6933960" cy="476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752480"/>
                    <a:ext cx="6933960" cy="476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Your Option Shee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is is a contract for what you want to take next year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lease research your college and university requirement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lease ask and consider the advice of your teacher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e aware of prerequisite course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ake an appointment with your guidance counselor to discuss option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e will try to place you in all of your requested course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f we can not, we will contact you with alternate opportunities or use your alternate choic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Your Option Sheet – 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Career Cruising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Your Option Sheet – </a:t>
            </a:r>
            <a:br>
              <a:rPr sz="2000"/>
            </a:b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Career Cruising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50" name="Object 4"/>
          <p:cNvGraphicFramePr/>
          <p:nvPr/>
        </p:nvGraphicFramePr>
        <p:xfrm>
          <a:off x="609480" y="914400"/>
          <a:ext cx="7925040" cy="576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914400"/>
                    <a:ext cx="7925040" cy="576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Your Option Sheet – </a:t>
            </a:r>
            <a:br>
              <a:rPr sz="2000"/>
            </a:b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Career Cruising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53" name="Object 3"/>
          <p:cNvGraphicFramePr/>
          <p:nvPr/>
        </p:nvGraphicFramePr>
        <p:xfrm>
          <a:off x="685800" y="990720"/>
          <a:ext cx="7696080" cy="563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990720"/>
                    <a:ext cx="7696080" cy="563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ww.colonelby.co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lease see IB course guide online at: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ttp://ibcb.ca/ibcourseguide20142015.pdf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cecff"/>
                </a:solidFill>
                <a:latin typeface="Arial"/>
              </a:rPr>
              <a:t>Credit Counselling Summary</a:t>
            </a:r>
            <a:br>
              <a:rPr sz="4000"/>
            </a:br>
            <a:r>
              <a:rPr b="0" lang="en-US" sz="3800" spc="-1" strike="noStrike">
                <a:solidFill>
                  <a:srgbClr val="ccecff"/>
                </a:solidFill>
                <a:latin typeface="Arial"/>
              </a:rPr>
              <a:t>Personal Information, Community Involvement, Ont. Literacy Test</a:t>
            </a:r>
            <a:endParaRPr b="0" lang="en-US" sz="3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0" name="Picture 3" descr=""/>
          <p:cNvPicPr/>
          <p:nvPr/>
        </p:nvPicPr>
        <p:blipFill>
          <a:blip r:embed="rId1"/>
          <a:stretch/>
        </p:blipFill>
        <p:spPr>
          <a:xfrm>
            <a:off x="228600" y="2895480"/>
            <a:ext cx="876312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ummer Schoo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egistration will begin on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May 1st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egistration can be completed online through Career Cruising.*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f you are taking a summer school course, identify the course in the space provided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ake-up and Reach Ahead option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*Course Selection:  Note on your Course Selection </a:t>
            </a: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print out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your intention to take summer school.  This is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NOT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an official summer school registration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ake an appointment with guidanc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esearch your option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iscuss recommended course levels with teacher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ill out a planning sheet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Understand your personal balance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How will I achieve the strongest success BIG PICTURE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iscuss options with parent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se decisions are about you, so do not give up on the opportunity to speak up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urse Selection Due Date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Thursday, February 18</a:t>
            </a:r>
            <a:r>
              <a:rPr b="1" lang="en-US" sz="3200" spc="-1" strike="noStrike" u="sng" baseline="30000">
                <a:solidFill>
                  <a:srgbClr val="ffffff"/>
                </a:solidFill>
                <a:uFillTx/>
                <a:latin typeface="Verdana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ubmit to classroom teacher for this presenta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(Geography – grade 9; History – grade 10; TOK – IB1/grade 11; English – grade 11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Credit Counselling Summary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en-US" sz="3800" spc="-1" strike="noStrike">
                <a:solidFill>
                  <a:srgbClr val="ccecff"/>
                </a:solidFill>
                <a:latin typeface="Arial"/>
              </a:rPr>
              <a:t>Past / Completed Courses</a:t>
            </a:r>
            <a:endParaRPr b="0" lang="en-US" sz="3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2" name="Picture 3" descr=""/>
          <p:cNvPicPr/>
          <p:nvPr/>
        </p:nvPicPr>
        <p:blipFill>
          <a:blip r:embed="rId1"/>
          <a:stretch/>
        </p:blipFill>
        <p:spPr>
          <a:xfrm>
            <a:off x="228600" y="2133720"/>
            <a:ext cx="8686800" cy="36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Credit Counselling Summary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en-US" sz="3800" spc="-1" strike="noStrike">
                <a:solidFill>
                  <a:srgbClr val="ccecff"/>
                </a:solidFill>
                <a:latin typeface="Arial"/>
              </a:rPr>
              <a:t>Current Courses</a:t>
            </a:r>
            <a:endParaRPr b="0" lang="en-US" sz="3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4" name="Picture 3" descr=""/>
          <p:cNvPicPr/>
          <p:nvPr/>
        </p:nvPicPr>
        <p:blipFill>
          <a:blip r:embed="rId1"/>
          <a:stretch/>
        </p:blipFill>
        <p:spPr>
          <a:xfrm>
            <a:off x="457200" y="1905120"/>
            <a:ext cx="8534520" cy="26254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4" descr=""/>
          <p:cNvPicPr/>
          <p:nvPr/>
        </p:nvPicPr>
        <p:blipFill>
          <a:blip r:embed="rId2"/>
          <a:stretch/>
        </p:blipFill>
        <p:spPr>
          <a:xfrm>
            <a:off x="533520" y="4876920"/>
            <a:ext cx="8153280" cy="125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Credit Counselling Summary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en-US" sz="4200" spc="-1" strike="noStrike">
                <a:solidFill>
                  <a:srgbClr val="ccecff"/>
                </a:solidFill>
                <a:latin typeface="Arial"/>
              </a:rPr>
              <a:t>Graduation Criteria</a:t>
            </a:r>
            <a:endParaRPr b="0" lang="en-US" sz="42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7" name="Picture 3" descr=""/>
          <p:cNvPicPr/>
          <p:nvPr/>
        </p:nvPicPr>
        <p:blipFill>
          <a:blip r:embed="rId1"/>
          <a:stretch/>
        </p:blipFill>
        <p:spPr>
          <a:xfrm>
            <a:off x="152280" y="2819520"/>
            <a:ext cx="8991720" cy="182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ow to read a co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rst three letters are the subject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NG  = English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VI   = Visual Art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BI    = Biolog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# Indicates yea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1 = 9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2  = 10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3 = 11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4  = 12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ading the Cod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NG2DE= Grade 10 English Academic, IB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NC 2DJ = Grade 10 Science, IB, Immers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BI3UE = Grade 11 Biology IB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CR 3UE = Grade 11 Math Studies, IB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GJ3M  = Grade 11  Communication Tech College/Universit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MI3C = Grade 11 Marketing Colleg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AF3O = Grade 11 Fitness  Ope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20T14:22:03Z</dcterms:created>
  <dc:creator>C30185</dc:creator>
  <dc:description/>
  <dc:language>en-US</dc:language>
  <cp:lastModifiedBy>Jill Badgery</cp:lastModifiedBy>
  <dcterms:modified xsi:type="dcterms:W3CDTF">2016-02-09T14:15:39Z</dcterms:modified>
  <cp:revision>83</cp:revision>
  <dc:subject/>
  <dc:title>Option sheets 2014-2015</dc:title>
</cp:coreProperties>
</file>